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F440-596A-444F-BAF0-A95765471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8120-739F-4C0E-A76B-51089494AA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15C4-71B6-4805-A45C-E0ADB3B45B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E4E4-DE2C-4A49-A8F0-8ACC086133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4DAD-4755-4DFD-AB9F-98B151D79A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7C55-D868-466C-B826-0A2D971D61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73080" y="465444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C17E-0CF1-496E-89F9-7299E3DB5A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86FB-A4DD-47DA-A008-B8B47BBA76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9557-2D51-4169-9065-6D7309664F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C533-F240-4AA6-BBC6-15104D7513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6FA4-E8ED-4D2D-B448-ABCFC71DC7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15FC-CC66-42B2-9B62-A8F0D1B1D8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81C3-68F9-407E-AA36-527445A7CE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AE03-FC66-4B42-8AC7-EBE33F8860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E0F7-0B20-4FE8-A785-B6EFA7A344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D704-8F87-48A3-913F-9817722EA9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AC1F-6849-4BB4-8D5B-F0310AC5CE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831F-AC9D-4E2E-BD34-573AD80F94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2213-CEEA-495F-BEFE-D57D188440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74E6-7B60-4A84-A61F-AF9899B78F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B9DC-4127-42DB-BB73-31F9D64DC8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B396-ED1A-465C-94E7-BFBE57F60C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0B6D-1990-4F87-83E9-E12B340E41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5E9A-8D51-4407-9953-AA5CFB0E53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9C84-1CDD-4811-B70D-FE8918C2B5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531D-D111-437C-8F4B-847A217E31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A0FF-BD5C-4379-A1B8-A8D8D78246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06F9-03C1-4C8B-806D-B2333D30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BB6-1D2D-45C0-BA71-64177297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E24D9-B376-4BF2-8566-E8935F4F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DC43F-B6AA-4CA7-BB00-6F588129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3744C-E20E-4B7D-9B15-5817D934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5A1A4-6477-4441-B01B-13B599B4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C91DD-7119-474E-8FD1-1932EF54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0071F-5912-4CF9-803E-9F6B1472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36D6E-9085-4357-BADC-11F0AAB3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98D03-9128-4855-A3D6-63DEF98B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E3C65-57BB-4E3F-A2A7-278E3CC9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BE772-92DC-418C-9784-8279F059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5DC-D32D-441F-A6AA-E5C6F3F5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3BB56-28DD-49F5-9706-E23261C0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4E6E9-D4DF-4F09-BFCD-6FCA0440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9F268-9024-43C5-A370-1FC705EA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08101-8DC4-4FAC-83BD-20818812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8BCAA-FE20-4F03-91E6-8D8B6E8D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4634D-8541-4987-9398-0212D951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AA7B7-1D4A-44F9-8AF5-ECD5566C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5E9CC-BBC7-45B4-ABFA-D517632D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2D549-2A7A-488D-9674-F25FBEC0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322A2-158D-4B30-923D-748D4C81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239-DFE0-43CB-B706-D7CD1573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FF364-DF8E-404E-9ADB-E3438B2E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4736D-43FA-4F6E-94C9-DDFD3F69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61FB6-F2BF-419D-9622-66F340D9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7C97C-1A7E-4B3D-8F44-1BFA3698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DC8A5-F43E-4442-B784-7A214671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F4998-5BEC-491F-9695-6A17152A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BDC3B-35ED-4FB7-A664-8CB53C95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1957B-D135-4736-AD87-2962E8CA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6C936-5B67-46D6-ABCE-9868581E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8726D-E4CE-4DE0-A12D-7F47BF71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935D-B9CF-48F1-98D0-A6F0B20F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2AC6F-4C05-4DA1-84F6-64442EB0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FE30A-1F2D-449F-AFBD-88B11DE9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2431E-7D07-4EB1-8DAB-353C82B9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F1C35-CB17-498B-BF1A-5A421E5A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A03F5-578C-4E11-8736-DA9579D7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07D91-D4B7-4F4C-961C-05A10C94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1C308-B8C1-480D-9CD0-21DE610F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D14B5-C3EA-481F-B55D-A1035E6D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1CF10-8B87-44DD-AE16-89A2EB7A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A33CB-01BC-42D2-ACBC-52D8C694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A32D-1365-44AA-A187-A037A4B5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B9DD1-D5ED-44BC-B2C1-CF4F8232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ABC77-37DE-4834-B569-D67B3FFC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15B7A-FE7D-4A72-A47B-87AC6F79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4E5EE-C58F-498C-AE34-05F91087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961D4-1345-46EB-B040-C2E94630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EEF8-D835-4D16-9448-EAE03AFC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ABDA-9E78-41CF-8298-8E4AF596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2550-2A1B-404B-8A40-33B60FE1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6DD5-B98D-4EC8-A71A-56049972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622A-7C14-485F-B172-0F37822D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232-7027-4BC8-9A47-6D9DAACA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1929-C82E-4141-8F43-C378A184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75BF-5A3C-466C-B16C-332C882D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1E80-3B3F-4B2A-B167-1E4BC029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8FF7-0507-47DD-B5E6-5005E47D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2F98-3034-4B8E-A075-B9B86400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BA210-011F-4D1C-9886-BA67A092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C86FA-9490-48C4-8F05-0D8A0F52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9934F-11C6-49CF-A7FF-B32439AB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993DA-278F-435B-BC2D-E3B24B28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99705-84F0-492E-9813-D806BF62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65F-15E1-4560-9A61-BFA310C8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C97F3-75ED-4EE5-91E3-28780D1D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3C7A9-6D68-42D7-86A9-9CBFA481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52ECB-6920-4BB8-8199-6F02B8F0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4802D-46E6-4F22-8F85-7991B33B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D3220-BCB7-45BB-971C-35FC05BF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BCFF4-250F-47FE-BF86-62AD32D6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7918E-F7CF-4326-A40F-7DF663CB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79325-8CAD-44E5-A5A0-A25365F4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9372C-7766-4BDB-A32B-AB25DD37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426B7-6D8F-4BD8-B155-DE1AAAC4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31E-EE70-4D60-9F5C-901D6423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C6074-BF53-44BC-A4EA-493A075F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2DC26-132B-4707-B3FE-33C547CB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2437E-D7CD-41EB-9AE8-31B0155C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B0392-A043-4668-9B3A-53908D7A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79D53-9D63-452E-970A-0D922CB6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25F09-7C47-43BF-B52A-C2C3AB0E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BD39D-A2ED-4F44-897D-A784C9C9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82C6A-A541-4183-A961-A469E31C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18113-E2CD-46B0-8C1D-4E277B07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F7EDA-56E0-4176-93F2-795D9022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A851-83AB-47CB-A1C9-5C93DD90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D9C62-AAB4-4B5B-B22C-DAE93A72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97475-5B76-4ED4-8AB5-05ACC392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EFE50-9909-4936-A5A6-08A768A5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8C235-E155-4CCB-8C4C-44DCDB8B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1271E-2E17-4AD9-8C30-CDD2B6CE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0512E-BF1F-4259-BD7D-6FD46F36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ACC79-C8BB-446B-A7D9-5AB8D4E6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AAF13-91B9-4D8B-9217-CC3145C8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781F3-9865-47E5-8A79-BA456369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92409-5A93-444A-AB47-EF267A5E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52F-C96D-4399-9E82-99E478BD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F6871-5FD7-4F63-97F3-AE487024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1F3BC-3E7E-4D5C-8148-A4D9BF5A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C447F-1106-4864-B1D9-B2733887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E153F-079F-494C-BA0C-3A1B50B9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83542-3CA2-4FBA-B834-DC6A0C96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1A062-EDF6-496C-895F-7AB76EBC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C5F81-51E5-468A-92DD-8AAC3BCB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EF11E-EB57-49C8-806A-214B6128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4A31F-B94E-4D23-BB04-BD3C259D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B8AAC-5606-4742-9A04-65589360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0EA-0BA1-469F-9C99-2B3B0F15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391C6-944A-47A9-8C31-CE0EDA57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86083-6D75-42B4-95A6-AD433E3C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0DE93-25A9-4AF2-95B0-41E1608F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566F8-3155-40B1-9A98-DB2A4BAE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E3BAA-3F3D-4C36-ADBE-0FE575B5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589E8-73E2-46C1-A6DD-4B713441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DA042-04CC-4041-97F7-07D41CC7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F385E-77AF-4B55-B0A8-849C42F2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250E6-2180-4F3C-A781-A3198913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CAC51-72F9-460C-8EA2-EEA6B6C0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3F3A-9192-4F52-9E3A-467A4DB0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CB9C3-818C-47F5-AD78-EB975047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BFEA9-DF14-45ED-A94F-ED288016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49B5A-6552-4D70-B524-B7A3E467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A7B28-0AB4-485F-A5DE-4738FC5F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4A419-419A-46EC-B69D-C34D0460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796BD-AA3F-42A3-AB72-F6B4D136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AED59-A526-48E8-A8BB-E87C5DEF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D4525-BC9C-44BB-ABC9-BA0C609E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7D9D8-F20F-4CD2-917E-5EFAB37C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25971-B774-46B8-9AAE-DBBA4D8E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3D2-ACEF-419D-865D-1E186011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04FB3-75FC-4352-9530-7041FE4C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9F800-F371-4A4C-8A28-DC9F6539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4A07E-2D55-4B28-845E-446AD910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6D08E-A66D-4F3F-BB41-27C1D6E2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E4CA2-2A59-4559-9399-638532B1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CF048-F1A4-47E9-A02C-0FF094F6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E54F9-6C85-4C55-A121-47367485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0B049-AC04-4C1E-BC35-C434167E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4BB9F-251D-47A0-AA6C-85A73C95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2BFD5-A325-4E60-B618-CBBCEFDD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13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Rectangle 15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427" name="Rectangle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AC4C-A54B-45BF-ABAB-70D668059954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7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48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5B2A-AEEA-4872-9A79-BEEE6495A158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2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9B93-643D-4928-A894-01E3499D34D4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Oval 15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60" name="Oval 15" descr=""/>
            <p:cNvPicPr/>
            <p:nvPr/>
          </p:nvPicPr>
          <p:blipFill>
            <a:blip r:embed="rId5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D5C1-454A-4BB1-80A9-F223CADF2FB8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C544-A344-47E3-807A-2A858514C06F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Oval 17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57" name="Oval 17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F7ED-FF21-45AA-9101-A129CB099927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CFD7-899E-4DF8-91BC-11E8AA178BCD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C37B-1BF8-402A-9866-43B53637EDBA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9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8603-321E-41DF-86CE-BF9B9D1195A4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603C-2370-4437-A444-45FF1F22273E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7920-604C-4F81-9440-A967042EE1B0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3"/>
          <p:cNvSpPr/>
          <p:nvPr/>
        </p:nvSpPr>
        <p:spPr>
          <a:xfrm>
            <a:off x="1447920" y="3962520"/>
            <a:ext cx="74070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0e04"/>
                </a:solidFill>
                <a:latin typeface="Gill Sans MT"/>
                <a:ea typeface="ＭＳ ゴシック"/>
              </a:rPr>
              <a:t>Lecture 13: Operating Systems –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90360" y="22856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Computer Organization </a:t>
            </a:r>
            <a:br>
              <a:rPr sz="3600"/>
            </a:br>
            <a:r>
              <a:rPr b="0" lang="en-GB" sz="36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and Architectu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General Purpose Computing Systems Categori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-user, single tasking (essentially obsolet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-user, multitask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fram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ributed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-time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rating systems for mobile de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mbedded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OS Degree of Activit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acti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so known as </a:t>
            </a:r>
            <a:r>
              <a:rPr b="1" lang="en-US" sz="2400" spc="-1" strike="noStrike">
                <a:solidFill>
                  <a:srgbClr val="8dc765"/>
                </a:solidFill>
                <a:latin typeface="Gill Sans MT"/>
              </a:rPr>
              <a:t>conversational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tch proc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ubmits programs or </a:t>
            </a:r>
            <a:r>
              <a:rPr b="1" lang="en-US" sz="2400" spc="-1" strike="noStrike">
                <a:solidFill>
                  <a:srgbClr val="8dc765"/>
                </a:solidFill>
                <a:latin typeface="Gill Sans MT"/>
              </a:rPr>
              <a:t>job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proc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ttle to no user inter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nt driv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rupts or service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026"/>
          <p:cNvSpPr/>
          <p:nvPr/>
        </p:nvSpPr>
        <p:spPr>
          <a:xfrm>
            <a:off x="1383840" y="1736640"/>
            <a:ext cx="185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ardware and the O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hardware platform may support a variety of operating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 operating system may work on a variety of platfor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standard operating system that works on different hardwar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program and file porta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ables user efficiency through recognizable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 implemented through a systems programming language like C++ or Java as opposed to assembly langu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ervices and Faciliti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and process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management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/O control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control management and interprocess commun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mory managemen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cheduling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ary storage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management, communication support, and communication interfa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stem protection management and secu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stem administ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ser Interface and Command Execution Servic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es of user interfa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 - Command Line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I - Graphical User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interface and command processor that interacts with the ker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/Linux:  C, Bourne, bash and Korn shel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and Langu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M Mainframes – JC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S Windows – .BAT files, Windows Powershe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/Linux – shell scrip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File Managemen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le - logical unit of stor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asic file management system provid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rectory structures for each I/O devi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ols to copy, move, store, retrieve and manipulate fil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formation about each file in the system and the tools to access that inform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urity mechanisms to protects files and control acc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dditional file management featur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ackup, emergency retrieval and recove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le compress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Journal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ransparent network file acc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dit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/O Servic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rtup configu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M-type PCs use BIOS (basic input/output syste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ice drives that implement interrupts and provide other techniques for handling I/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ug and p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rocess Control Managemen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process is an executing progr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process messaging servic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:  a pipe in UNIX or Windows that is a temporary software connection between two programs or com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 individually executable part of a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ares memory and other resources with other threads of the same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Memory Managemen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track of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dentifies programs loaded into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mount of space each program u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ailable remaining sp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vents programs from reading and writing memory outside of their allocated sp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ains queues of waiting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cates memory to programs to be loa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allocates a program’s memory space upon program comple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ually implemented with virtual stor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chedul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gh-level schedu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aced in queue based on level of priority and eventually execu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patch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ual selection of process(es) that will be executed at any given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preemptive:  program voluntarily gives up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emptive: uses clock interrupt for multitask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ext switch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control to the process that is being dispatch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ing requirements: CPU vs. I/O bou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ithout an Operating System…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gram instructions must be loaded into memory by h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user interface except for I/O routines provided with executing progr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stem is idle when waiting for user in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acility to store, retrieve, or manipulate fi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ability to control peripheral de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run only one program at a time; computer halts at end of each progr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chieving Multitask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ile one program is waiting for I/O to take place, another program is using the CPU to execute instructio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-slic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CPU may be switched rapidly back and forth between different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patc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 activated by I/O operation or real time clock interrup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lects next process to ru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haring the CPU during I/O Break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/O represents a large percentage of a typical program’s exec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2" name="Picture 7" descr="C:\Documents and Settings\All Users\Documents\Home\Bentley\cs220\IrvTextbookV3\Images\Ch13\c13f05.jpg"/>
          <p:cNvPicPr/>
          <p:nvPr/>
        </p:nvPicPr>
        <p:blipFill>
          <a:blip r:embed="rId2"/>
          <a:stretch/>
        </p:blipFill>
        <p:spPr>
          <a:xfrm>
            <a:off x="1143000" y="2895480"/>
            <a:ext cx="73152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7" descr="C:\Documents and Settings\All Users\Documents\Home\Bentley\cs220\IrvTextbookV3\Images\Ch13\c13f06.jpg"/>
          <p:cNvPicPr/>
          <p:nvPr/>
        </p:nvPicPr>
        <p:blipFill>
          <a:blip r:embed="rId2"/>
          <a:stretch/>
        </p:blipFill>
        <p:spPr>
          <a:xfrm>
            <a:off x="1066680" y="1676520"/>
            <a:ext cx="7467840" cy="4259160"/>
          </a:xfrm>
          <a:prstGeom prst="rect">
            <a:avLst/>
          </a:prstGeom>
          <a:ln w="0">
            <a:noFill/>
          </a:ln>
        </p:spPr>
      </p:pic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ime-sharing the CPU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1219320" y="4876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dc765"/>
                </a:solidFill>
                <a:latin typeface="Tahoma"/>
                <a:ea typeface="ＭＳ ゴシック"/>
              </a:rPr>
              <a:t>Time s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econdary Storage and Securit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ary storage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timizes completion of I/O tasks for efficient disk u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bination of hardware and soft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urity and protection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ect OS from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ect users from other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vent unauthorized entry to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vent unauthorized system use by authorized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Network and Communication Servic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-IP protocol su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te and connect to other compu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ss application data in packets to other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ss files, I/O devices, and programs from remote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rt distributed proc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mail, remote login, Web services, streaming multimedia, voice over IP telephony, VP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ion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face between communication software and OS I/O control system that provides network ac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ystem Administration Suppor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stem configuration and setting group configuration polic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ng and deleting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ling and modifying user privile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stem secu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s systems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876560" y="1523880"/>
            <a:ext cx="3886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minist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cku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ftware installations and upgra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S installations (system generation), patches, and upgra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stem tuning and optimiz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nitoring perform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overing lost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ystems Tools Exampl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99072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BM z/O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ysgen: reconfiguration to incorporate new equipm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orkload Manager: optimize system resources automaticall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nix/Linux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uperuser: system administrator account with privileges to override all restrictions and security built into the syste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dduser: administer user accou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ount/umount: mount and unmount a file syste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sck: check and repair a file syste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fsdump/ufsrestore: create and restore backup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indow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rol pan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ask manager (Ctrl-Alt-Del menu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ypical System Status Repor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36" name="Content Placeholder 5" descr="fig_15_05.jpg"/>
          <p:cNvPicPr/>
          <p:nvPr/>
        </p:nvPicPr>
        <p:blipFill>
          <a:blip r:embed="rId2"/>
          <a:stretch/>
        </p:blipFill>
        <p:spPr>
          <a:xfrm>
            <a:off x="1797120" y="1523880"/>
            <a:ext cx="6006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OS Configura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9907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ree main configurations for the organization of an operating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nolithic configu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314360" indent="-514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/Linu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erarchical (layered) configu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314360" indent="-514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314360" indent="-514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 2000 and later versions (approximately hierarchica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croker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314360" indent="-514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Monolithic Kerne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awback: stability and integrity must be managed careful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s: UNIX, Linu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1" name="Picture 6" descr="C:\Documents and Settings\All Users\Documents\Home\Bentley\cs220\IrvTextbookV3\Images\Ch13\c13f08.jpg"/>
          <p:cNvPicPr/>
          <p:nvPr/>
        </p:nvPicPr>
        <p:blipFill>
          <a:blip r:embed="rId2"/>
          <a:stretch/>
        </p:blipFill>
        <p:spPr>
          <a:xfrm>
            <a:off x="2895480" y="3048120"/>
            <a:ext cx="39625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ntegrated Computer Environmen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84" name="Picture 2054" descr="D:\c13f01.jpg"/>
          <p:cNvPicPr/>
          <p:nvPr/>
        </p:nvPicPr>
        <p:blipFill>
          <a:blip r:embed="rId2"/>
          <a:stretch/>
        </p:blipFill>
        <p:spPr>
          <a:xfrm>
            <a:off x="2438280" y="1371600"/>
            <a:ext cx="4313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ierarchical Model of an O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43" name="Content Placeholder 5" descr="fig_15_07.jpg"/>
          <p:cNvPicPr/>
          <p:nvPr/>
        </p:nvPicPr>
        <p:blipFill>
          <a:blip r:embed="rId2"/>
          <a:stretch/>
        </p:blipFill>
        <p:spPr>
          <a:xfrm>
            <a:off x="1905120" y="2209680"/>
            <a:ext cx="5638680" cy="39960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 txBox="1"/>
          <p:nvPr/>
        </p:nvSpPr>
        <p:spPr>
          <a:xfrm>
            <a:off x="990360" y="1294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layer is independent of the other lay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ests are passed down to the layer immediately below 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3" descr="_x000b_F14-12_W160                                                    0000352D&#9;CS1-Vol.8                      ACA2EEF9:"/>
          <p:cNvPicPr/>
          <p:nvPr/>
        </p:nvPicPr>
        <p:blipFill>
          <a:blip r:embed="rId2"/>
          <a:srcRect l="0" t="0" r="0" b="20679"/>
          <a:stretch/>
        </p:blipFill>
        <p:spPr>
          <a:xfrm>
            <a:off x="1089000" y="3505320"/>
            <a:ext cx="7978680" cy="23382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Microkerne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nimum essential functiona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 system on same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s request services from microkernel which passes message onto appropriate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8 Types of Operating Systems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ngle user, single tasking (obsolet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06800" indent="-406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ngle-user systems and worksta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redominant systems in us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cintosh OSX, versions of Windows, Linux and Sun Solar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06800" indent="-406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inframe system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signed to manage large scale computing resourc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tensive I/O capability to handle large numbers of transac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upport batch data processing opera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sist of clusters made up of multiprocessor uni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06800" indent="-406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etwork serv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cused on supporting clients connected to the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mproved security, high reliability, backup faciliti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8 Types of Operating Systems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9907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bile operating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97040" indent="-425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signed for small hand-held devices such as PDAs and smart pho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97040" indent="-425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eatures of single-user multitasking systems but with constraints on memory, storage, CPU execution speed and electrical pow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97040" indent="-425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ecial keyboard handl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5160" indent="-4251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al-time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97040" indent="-425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ne or more processes must be able to access the operating system immediate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97040" indent="-425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ultitasking system where the real-time program’s interrupts have very high prior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97040" indent="-425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69280" indent="-4251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ir controller systems, rocket propulsion control systems, car brak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97040" indent="-425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8 Types of Operating Systems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99036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mbedded control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ecialized systems designed to control a single piece of equipment such as an automobile or a microwave ov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oftware is usually provided in RO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al-time system dedicated to the particular applic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ample: General Motors Delphi syste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tributed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cessing power distributed among computers in a cluster or networ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ample: Distributed Computing Environment (DC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ser Interface (UI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imary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lp the user use the computer system </a:t>
            </a:r>
            <a:r>
              <a:rPr b="1" lang="en-US" sz="2400" spc="-1" strike="noStrike">
                <a:solidFill>
                  <a:srgbClr val="cc9900"/>
                </a:solidFill>
                <a:latin typeface="Gill Sans MT"/>
              </a:rPr>
              <a:t>productive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ke computer facilities accessible to the user to allow the user to get work done conveniently and efficient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ary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on look and feel for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consistent user interface tools to application programs to lower learning curves and increase productiv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I Access to Servic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9903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ree different approach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and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pts commands directly from the user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ither graphical (GUI) or command line (CLI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and langu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pts and executes groups of commands as a progr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so known as scripting langu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Programming Interface (API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pts and performs requests directly from the user’s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ypical OS User Servic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ding and execution of program fi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com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I/O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urity and data integ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user communication and data sha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stem Stat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/O, file and specialized services for user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I Utiliti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9907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d in place of programs to manipulate the data within files and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be combined using a command language to create powerful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rting data and fi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ieving data selectively from fi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difying data in fi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rogram Execu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99036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perand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ame of files passed to the progra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arameters passed to the program that affects the program behavi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mand Line Interfa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ype the name of the program and submit it to the operating syste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raphical User Interfa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ouble-click on a graphical ic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ouble-click on a data file icon.  Program associated with the data file is executed with the data file as an operand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atch mod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un programs non-interactivel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efinition of an Operating Syste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collection of computer programs that integrate the hardware resources of the computer and make those resources available to a user and the user’s programs, in a way that allows the user access to the computer in a productive, timely, and efficient manner.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File Comman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99072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le command categori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tor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triev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rganiz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nipulation of fil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mportant features of a file management syste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bility to treat files by a logical name without regard to physical characteristics or storage loc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andle physical manipulation of files and translate between logical and physical representa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ssue commands to the OS that store, manipulate and retrieve fil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bility to construct an effective file organiz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mmon File Comman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67" name="Content Placeholder 5" descr="fig_16_01.jpg"/>
          <p:cNvPicPr/>
          <p:nvPr/>
        </p:nvPicPr>
        <p:blipFill>
          <a:blip r:embed="rId2"/>
          <a:stretch/>
        </p:blipFill>
        <p:spPr>
          <a:xfrm>
            <a:off x="1066680" y="2209680"/>
            <a:ext cx="77724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/O Device Comman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99072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ands for direct operation on I/O de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matting and checking dis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ying entire dis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output to a screen or prin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Queuing system for spooling output to a prin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unting or unmounting an I/O de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taching or detaching a directory structure of a device to an existing directory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d in Unix/Linu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nteruser communication and disk sharing opera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gram sha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ace shared program in a common memory space where all users can reach th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file sharing and data integrity issu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 users working on a single docu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b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S message passing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-mail, FTP, terminal facilities (telnet, ssh), http, instant messaging, audio and video conferenc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S services to permit program to communicate with one anot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redirection and pipe com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ystem Status Inform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on system status com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mount of available disk sp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mount of available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umber of users on the system and who they 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% of time that CPU and I/O channels are bus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gging facility that maintains a file of all keyboard and screen I/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rogram Servic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99072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ices the OS provides directly to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/O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process message pa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are and exchange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ribute program processing among different machines on a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s – DCOM, .NET, CORBA, RP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I (application programming interfac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brary of service functions that may be called by a progr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nterface Desig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major types of interface desig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 - Command Line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 command promp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/Linux command promp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storically the most common OS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tch System Com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I - Graphical User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e Macintosh, Windows, Sun workstations, most versions of Linu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ed web browser interface for some combinations of Windows versions and browser ver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mmand Line Interfac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and &lt;operand1&gt; &lt;operand2&gt; 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&lt;switch1&gt; &lt;switch2&gt; 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r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yword (switches) and/or posit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 example to save a directory listing in a f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r pathparta\pathpartb &gt; putfile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quivalent Linux exam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s –lF pathparta/pathpartb &gt; putfile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Batch System Comman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9903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ilar interface to command line interpre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and &lt;operand1&gt; &lt;operand2&gt; 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y location of programs to be executed and data to be u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s a Job Control Language (JC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grams are executed with no human inter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: IBM zOS/Job Control Langu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is this different from shell script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Graphical User Interfac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use-driven and icon-ba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e allocated to the use of a particular program or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in desktop or screens, icons, windows, title bar, task bar, clock, menu bar, and gadgets or widg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Operating System – Basic Servic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pts commands and requests from users and users’ programs and responds with appropriate output resul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ages, loads, and executes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ages hardware resources of the computer including interfaces to networks and other external parts of the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e: The operating system itself consists of hundreds or thousands of programs, each specialized for particular OS task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nterface Desig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9903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 browser as a user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really part of the operating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a consistent, simple interface well-suited to less experienced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owing proliferation of applications with a web-based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GUI Interface – Windows Vista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87" name="Picture 8" descr="fig_16_02.jpg"/>
          <p:cNvPicPr/>
          <p:nvPr/>
        </p:nvPicPr>
        <p:blipFill>
          <a:blip r:embed="rId2"/>
          <a:stretch/>
        </p:blipFill>
        <p:spPr>
          <a:xfrm>
            <a:off x="1219320" y="1371600"/>
            <a:ext cx="736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GUI Interface – Linux KD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89" name="Picture 8" descr="fig_16_03.jpg"/>
          <p:cNvPicPr/>
          <p:nvPr/>
        </p:nvPicPr>
        <p:blipFill>
          <a:blip r:embed="rId2"/>
          <a:stretch/>
        </p:blipFill>
        <p:spPr>
          <a:xfrm>
            <a:off x="1143000" y="1447920"/>
            <a:ext cx="75438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GUI Interface – MacIntosh OSX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91" name="Picture 8" descr="fig_16_04.jpg"/>
          <p:cNvPicPr/>
          <p:nvPr/>
        </p:nvPicPr>
        <p:blipFill>
          <a:blip r:embed="rId2"/>
          <a:stretch/>
        </p:blipFill>
        <p:spPr>
          <a:xfrm>
            <a:off x="1676520" y="1447920"/>
            <a:ext cx="5715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GUI vs. CLI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sy to learn and u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ttle train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menable to multi-task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arder to imple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re HW/SW requirem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ires lots of memo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W is complex and difficult to wri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re flexible and powerfu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ster for experienced us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 combine command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 use wild cards to apply a command to multiple files or director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re difficult to learn and u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X-Window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96" name="Picture 3" descr="C:\Documents and Settings\All Users\Documents\Home\Bentley\cs220\IrvTextbookV3\Images\Ch14\c14f07.jpg"/>
          <p:cNvPicPr/>
          <p:nvPr/>
        </p:nvPicPr>
        <p:blipFill>
          <a:blip r:embed="rId2"/>
          <a:stretch/>
        </p:blipFill>
        <p:spPr>
          <a:xfrm>
            <a:off x="1828800" y="1447920"/>
            <a:ext cx="6172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Multicomputer X-Window Displa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98" name="Content Placeholder 6" descr="fig_16_07.jpg"/>
          <p:cNvPicPr/>
          <p:nvPr/>
        </p:nvPicPr>
        <p:blipFill>
          <a:blip r:embed="rId2"/>
          <a:stretch/>
        </p:blipFill>
        <p:spPr>
          <a:xfrm>
            <a:off x="1593720" y="1523880"/>
            <a:ext cx="6559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mmand Languag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90360" y="1112760"/>
            <a:ext cx="79246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a mechanism to combine sequences of commands together.  These pseudo-programs are known as </a:t>
            </a:r>
            <a:r>
              <a:rPr b="1" lang="en-US" sz="2400" spc="-1" strike="noStrike">
                <a:solidFill>
                  <a:srgbClr val="cc9900"/>
                </a:solidFill>
                <a:latin typeface="Gill Sans MT"/>
              </a:rPr>
              <a:t>scripts</a:t>
            </a:r>
            <a:r>
              <a:rPr b="0" lang="en-US" sz="2400" spc="-1" strike="noStrike">
                <a:solidFill>
                  <a:srgbClr val="cc99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 </a:t>
            </a:r>
            <a:r>
              <a:rPr b="1" lang="en-US" sz="2400" spc="-1" strike="noStrike">
                <a:solidFill>
                  <a:srgbClr val="cc9900"/>
                </a:solidFill>
                <a:latin typeface="Gill Sans MT"/>
              </a:rPr>
              <a:t>batch files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rtup files – OS configuration, user preferen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atures of Command Langu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accept input from the user and can output messages to I/O de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ability to create and manipulate variab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lude the ability to branch and loo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ility to specify arguments to the program command and to transfer those arguments to variables within the scrip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error detection and reco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indows Program DOWP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702" name="Content Placeholder 5" descr="fig_16_08.jpg"/>
          <p:cNvPicPr/>
          <p:nvPr/>
        </p:nvPicPr>
        <p:blipFill>
          <a:blip r:embed="rId2"/>
          <a:stretch/>
        </p:blipFill>
        <p:spPr>
          <a:xfrm>
            <a:off x="1149480" y="1447920"/>
            <a:ext cx="776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xample: Linux Shell Scrip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704" name="Picture 3" descr="C:\Documents and Settings\All Users\Documents\Home\Bentley\cs220\IrvTextbookV3\Images\Ch14\c14f10.jpg"/>
          <p:cNvPicPr/>
          <p:nvPr/>
        </p:nvPicPr>
        <p:blipFill>
          <a:blip r:embed="rId2"/>
          <a:stretch/>
        </p:blipFill>
        <p:spPr>
          <a:xfrm>
            <a:off x="1143000" y="1447920"/>
            <a:ext cx="7848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ncurrent Opera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tasking (multiprogramm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 of concurrent processing to simulate simultaneous execution of multiple programs even when using only a single CP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rts multiuser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roc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ual simultaneous processing of multiple programs using either multiple CPUs or multiple CPU co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Operating System – Additional Servic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interfaces for the user and the user’s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management and support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/O support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ans of starting the comp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otstrapping or booting the computer or Initial Program Load (IP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les all interrupt proc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ices to allocate resources such as memory, CPU time, and I/O de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urity and protection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stems administ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Operating System Component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mory Resid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ways loaded in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only called the ker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ins essential services required by other parts of the operating system and application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ly responsible for managing memory management, processes and tasks, and secondary stor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mory Non-resid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requently used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ftware to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otstrap progr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implified Diagram of Operating System Servic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96" name="Picture 5" descr="fig_15_02.jpg"/>
          <p:cNvPicPr/>
          <p:nvPr/>
        </p:nvPicPr>
        <p:blipFill>
          <a:blip r:embed="rId2"/>
          <a:stretch/>
        </p:blipFill>
        <p:spPr>
          <a:xfrm>
            <a:off x="2971800" y="1447920"/>
            <a:ext cx="34574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09:48:45Z</dcterms:created>
  <dc:creator>Pusat Komputer</dc:creator>
  <dc:description/>
  <dc:language>en-US</dc:language>
  <cp:lastModifiedBy>Zainal Nasharuddin</cp:lastModifiedBy>
  <dcterms:modified xsi:type="dcterms:W3CDTF">2011-12-21T10:04:10Z</dcterms:modified>
  <cp:revision>127</cp:revision>
  <dc:subject/>
  <dc:title>Computer Organization  and Architecture</dc:title>
</cp:coreProperties>
</file>